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729-B74F-4916-A744-10C89429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8BF-6B32-4620-B7A5-78688D1D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C12-2BC6-475D-A32D-AF5FC4FD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5FF-AE39-489A-AD59-BE1DD278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67C-7875-4686-AB49-E7473DA0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45D-565D-4E94-A649-EF06D77D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4CB-EFE6-4B9A-9108-CF7522C9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5CD-5D1C-4AD0-B288-F59D021E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590-0644-4DAC-8FFD-D6812DE3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4D0-9957-4380-A475-8DA81E6A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1BB-3584-4A01-9604-7043DB59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87D-9606-4883-985A-45DFF9C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A3FF-A375-4D30-B122-0654ED5D24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4" descr="Fondo Es_0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179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1628280"/>
            <a:ext cx="8172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INISTERIO DE CONSER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NISTERIO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agen 10" descr="Copia de L"/>
          <p:cNvPicPr/>
          <p:nvPr/>
        </p:nvPicPr>
        <p:blipFill>
          <a:blip r:embed="rId2"/>
          <a:stretch/>
        </p:blipFill>
        <p:spPr>
          <a:xfrm>
            <a:off x="7242120" y="5229360"/>
            <a:ext cx="930240" cy="64908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1" descr="Copia de L"/>
          <p:cNvPicPr/>
          <p:nvPr/>
        </p:nvPicPr>
        <p:blipFill>
          <a:blip r:embed="rId3"/>
          <a:stretch/>
        </p:blipFill>
        <p:spPr>
          <a:xfrm>
            <a:off x="971640" y="5229360"/>
            <a:ext cx="9302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Áreas de A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629080" y="1628640"/>
            <a:ext cx="55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ctr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cio-cul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cipul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ómo Funci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-360" y="1628640"/>
            <a:ext cx="817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oja un líder para el ministerio entre lois Hermanos Mayores de los Grupos Peque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ne al líder con el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Hermanos Mayores de todas las Células realizan los proyectos como base de ese minis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ómo Funci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e funcionar especialmente en el periodo de consolid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ómo Funci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ocer bien cada proyecto para entrenar el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rometer a todos los departamentos de la iglesia para que apoye estos proyec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bajar con el Pas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aborar materiales de apoyo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ómo Funci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egir una persona responsable de cada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aborar un cronograma de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r con su equip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tener al grupo unido en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nar a su equipo para realizar 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Grupos Peq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grupo pequeño es la base de la inspiración y nutrición espiritual, así como del amor filial, del compañerismo y el discipulado.  El comienzo de la salvación de toda alma y de la consolidación en la iglesia comienza allí.  Fue ideado en la mente de quien jamás se ha equivocado, por tal razón es el mejor proyecto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ub de Señ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tora (Mujer con Muj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s Post-bautis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ité de Invi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iga secreta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cipul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si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amada al coraz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2.  Club de Señ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es un grupo de apoyo el cual reúne a las mujeres recién convertidas una vez por semana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rrollar momentos de alabanza, oración y test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mover crecimiento a través de temas tocantes a la mujer en cuanto a salud, devoción personal, apariencia personal, educación de los hijos, familia, habilidades man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lub de Señ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arse y hacer amist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undizar el compañerismo y la comunidad cristi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icipar de un sencillo compar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fianzar los principios cristianos y el estilo de vida advent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3.  Herman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hermano de mayor de la Célula y con experiencia cristiana cuidará de la recién bautizada de forma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tes de realizar la ceremonia bautismal, el Grupo Pequeño le asigna al Hermano Mayor esta respon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Interés Contin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18920" y="1457280"/>
            <a:ext cx="81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OS SOMOS MIEMBROS DE UNA SOLA FAMILIA DE CRISTO. DIOS ES NUESTRO PADRE Y ESPERA QUE NOS INTERESEMOS EN LOS MIEMBROS DE SU FAMILIA; PERO NO DESEA QUE MANIFESTEMOS UN INTERÈS CASUAL SINO U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NTERES DECIDIDO Y CONTINU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EVANGELISMO P. 256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Herman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mayor preocupación será la de engrandecer el círculo de amistades del recién convertido, ofrecerle afecto y compañerismo, ganar su confianza y llevarle hasta hacerle discípulo de Jesú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Sug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ibir cartas, notas y tarjetas de salu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rle libros que le ayuden a cre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artir recetas culin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cambiar po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itarle a comer a su casa, compartir  un helado o salir a otro l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sitarle en su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Sug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itarle a un culto de recepción o despedida de Sáb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rle en actividades de familia el sábado en la ta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námicas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amadas telefón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caso de ser necesario atender a su familia a través del Departamento de Dor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4.  Clases Post-bautis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ministerio de la mujer integrado con ministerios personales y otros departamentos de la iglesia pueden organizar estas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uniones semanales para los recién convertidos que deseen profundizar en  el conocimiento de la palabra de 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lases deben proveer, doctrinas bíblicas, historia, organización de la iglesia, mensaje pro-salud, mayordomía, hogar y familia, dones espirituales, dadivosidad sistemática, obra misionera y discipu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5. Grupo de Invi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es proyecto es hermoso, pues genera la oportunidad de hacer sentir amado, aceptado y en familia al recién conve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ordinadora o coordinador de este proyecto tiene el privilegio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Grupo de Invi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ar a las familias a quienes les agrada invitar personas a su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unica a cada familia el nombre de las personas a invitar y la señora de la casa se encargará de hacer la inv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ea cada detalle de manera que ningún recién convertido quede sin ser invi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na a las familias anfitrionas para saber como llevar a cabo este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6. Amigo Secreto de O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proyecto puede durar un mes o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yan los nombres de los hermanos, en secreto, y luego cada amigo de oración se e encargará de enviar mensajes, detalles procurando animarla en su vida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 final del mes en una reunión muy especial, corta y de testificación por las oraciones respondidas, se descubrirán los amigos secr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7. Discipu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réis misioneros o no seréis nad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testificación es el medio más efectivo para mantener, conservar y retener a un nuevo conve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fin único de este ministerio es entregar al recién converso como discípulo de C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importante que aun desde antes del bautismo ya la persona forme parte del grupo pequ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7. Discipu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21600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personas que se ocupan más activamente en hacer con interés y fidelidad la obra que les corresponde en la tarea de ganar almas para Cristo, son las que más se desarrollan en espiritualidad y devoción.  Su trabajo muy activo ha constituido el instrumento de su espiritualid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Evangelismo P. 2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8. Llamado al Cor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 que anima a las personas que han dejado de frecuentar a los grupos pequeños o a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objetivo es reconectar a eses personas con Jesú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trabajo está basado en estrategias significativas (serenatas cristianas, envío de mensajes de aprecio, ot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628640"/>
            <a:ext cx="7921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ministerio de conservación es un plan para conservar y retener los hermanos recién bautizados y personas que recién llegan a la iglesia, los cuales necesitan cuidados a fin de adoptar el estilo de vida adventista y ser fortalecidos en la fe llegando a ser discípulos de Cristo Jesú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se le llama a los que trabajan en este Ministerio, Hermanos Mayores. La unión de todos los Hermanos Mayores es el Ministerio de la Consolid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Nuestro Anh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114560" y="3078000"/>
            <a:ext cx="7800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Señor bendiga la obra de tus manos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Biblia-Esp-38-Mundo-Razas"/>
          <p:cNvPicPr/>
          <p:nvPr/>
        </p:nvPicPr>
        <p:blipFill>
          <a:blip r:embed="rId1"/>
          <a:stretch/>
        </p:blipFill>
        <p:spPr>
          <a:xfrm>
            <a:off x="0" y="-51444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137" name="Rectángulo 5"/>
          <p:cNvSpPr/>
          <p:nvPr/>
        </p:nvSpPr>
        <p:spPr>
          <a:xfrm>
            <a:off x="2743200" y="522936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200" spc="-1" strike="noStrike">
                <a:solidFill>
                  <a:srgbClr val="ffffff"/>
                </a:solidFill>
                <a:latin typeface="BankGothic Md BT"/>
              </a:rPr>
              <a:t>¡HOY!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ángulo 6"/>
          <p:cNvSpPr/>
          <p:nvPr/>
        </p:nvSpPr>
        <p:spPr>
          <a:xfrm>
            <a:off x="34920" y="189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BankGothic Md BT"/>
              </a:rPr>
              <a:t>JESÚS CUENTA CONTIGO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2" descr="Fondo Es_0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e ministerio está destinado a ofrecer una base sólida donde el miembro pueda fundamentar su fe y ser entrenado para que a corto o medio plazo pueda ser un discípulo de Jesucristo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ilosofí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71640" y="1800000"/>
            <a:ext cx="720072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los hombres y las mujeres aceptan la verdad , no hemos de alejarnos y abandonarlos para no sentir ninguna preocupación futura por ellos . Han de ser atendidos, han de ser llevados como una carga en el alma; debemos velar sobre ellos como mayordomos que deben llevar cuent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Evangelismo p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ilosofí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ués que las personas se han convertido a la verdad, es necesario cuidarlas … no se los debe dejar solos, a merced de las más poderosas tentaciones de Satanás; necesitan ser educados con respecto a sus deberes; hay que tratarlos bondadosamente, conducirlos, visitarlos y orar con ellos.  Estas almas necesitan el alimento asignado a cada uno a su debido tiemp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 Evangelismo P. 25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ilosofí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os requiere que su iglesia cuide de aquellos que son jóvenes en la fe y experiencia, que vaya a ellos, no con el propósito de chismear con ellos, sino para orar, para hablarles palabras que sean como manzanas de oro en canastillos de plata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ilosofí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asa preparación doctrinal de los candidatos al bautismo, lo cual ocasiona que un 10% de los nuevos miembros dejen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lta de atención personalizada a los nuevos miemb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15% de los nuevos miembros no consiguen vivir las doctrinas y el estilo de vida advent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2" descr="Fondo Es_0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817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ilosofí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lta de visita a sus hog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75% de los nuevos miembros se alejan de la iglesia por no haber encontrado el compañerismo necesario para sentirse plenamente amados y qued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nuevo hermano, siente que no está integrado a la misión de la iglesia y no sabe como hace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8:13:31Z</dcterms:created>
  <dc:creator>Benny Rodríguez</dc:creator>
  <dc:description/>
  <dc:language>en-US</dc:language>
  <cp:lastModifiedBy>Ney Devis</cp:lastModifiedBy>
  <dcterms:modified xsi:type="dcterms:W3CDTF">2010-06-07T14:21:57Z</dcterms:modified>
  <cp:revision>16</cp:revision>
  <dc:subject/>
  <dc:title>MINISTERIO DE CONSERVACION</dc:title>
</cp:coreProperties>
</file>